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7305-8581-4FA1-9D65-9FDC2CA18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BD1A-905B-4259-9C18-409EA8908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2323-5042-4242-A870-793961089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6B57-7905-4BFC-9352-1ED6CADE8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6D8A0-C228-4F9B-8FEF-B6B7B187B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326E5-6227-417A-AC41-DA8B2B8A1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0057F-8756-479C-86E1-4C2392CE6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E8916-B76A-4911-A1BA-6F0F7C5AB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8A55A-1A63-4FCA-A72F-066176DC3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990720" y="3049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03F78-6A67-4571-AE0D-033BA728A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5E2C3-5BE9-42B5-A0CD-1478726F9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7F62-C831-48E2-8A26-7F4345698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10AE3-D9A5-4D84-B08F-063987D6B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6C74D-700E-4EA1-8757-438108FD9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5546C-CB5E-4924-A104-232C8C83F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35D1A-EB28-4EEC-AE9A-44AB54835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A0B0C-E198-4220-9945-BFCD057DA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CDB2-CBFC-483D-806D-613328182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84D3-70B0-4C18-AE0A-4E4142356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0DDF-F628-4365-8DD4-1989D83C6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90720" y="3049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064D-AF6A-451E-943E-3B7BE1E10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94AC-B4FD-45C6-94F2-67A89FBF9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348A-4DB9-4B64-9920-5A472D980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B465-270B-47C5-A287-2DAFBACB9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>
            <a:alphaModFix amt="40000"/>
          </a:blip>
          <a:stretch/>
        </p:blipFill>
        <p:spPr>
          <a:xfrm>
            <a:off x="7315200" y="5510160"/>
            <a:ext cx="1828800" cy="1347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808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D4A74-5D55-4DC0-A12C-B2DAD901B1EF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8440" y="2967120"/>
            <a:ext cx="8026560" cy="0"/>
          </a:xfrm>
          <a:prstGeom prst="line">
            <a:avLst/>
          </a:prstGeom>
          <a:ln w="507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479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0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DE6B2-42D8-4BA5-ACAC-AC41F6BA1FC7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sourceforge.net/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5640" y="914400"/>
            <a:ext cx="6095880" cy="160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GBrowse: Generic Genome Browser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3886200"/>
            <a:ext cx="73152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September 2003 Update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Lincoln Stein, CSHL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914400"/>
            <a:ext cx="2133720" cy="15732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GBrowse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rcRect l="905" t="28856" r="2830" b="13655"/>
          <a:stretch/>
        </p:blipFill>
        <p:spPr>
          <a:xfrm>
            <a:off x="838080" y="1824120"/>
            <a:ext cx="7751880" cy="37386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Documentation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PODified Documentation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Man pages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Text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HTML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One-click web page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Illustrated tutorial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No database needed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Installation Helpers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Genbank2GFF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UCSC2GFF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Two versions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Gadfly2GFF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GFF3 Support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Schema Enhancements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Chado support improved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Most (all?) performance issues resolved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Bio::DB::GFF improved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Delete/update support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Update plugin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Other Notable Happenings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“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ISB GBrowse” released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Multiple data sources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DAS integration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“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Don’s GBrowse”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MARC GBrowse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Closed loop system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Credits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99" name=""/>
          <p:cNvSpPr/>
          <p:nvPr/>
        </p:nvSpPr>
        <p:spPr>
          <a:xfrm>
            <a:off x="1850040" y="1523880"/>
            <a:ext cx="2332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entury Schoolbook"/>
              </a:rPr>
              <a:t>CSH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huly Avrah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cott Ca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898640" y="2895480"/>
            <a:ext cx="257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entury Schoolbook"/>
              </a:rPr>
              <a:t>BDG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hris Munga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hengQiang Sh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47720" y="5938920"/>
            <a:ext cx="1523880" cy="5364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071520" y="5973840"/>
            <a:ext cx="435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stellar"/>
              </a:rPr>
              <a:t>http://www.gmod.or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1523880"/>
            <a:ext cx="223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entury Schoolbook"/>
              </a:rPr>
              <a:t>IS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Paul Edelfs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Robert Huble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892880" y="4375080"/>
            <a:ext cx="237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entury Schoolbook"/>
              </a:rPr>
              <a:t>HGMP-RC Fug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hawn Ho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186520" y="2927520"/>
            <a:ext cx="220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entury Schoolbook"/>
              </a:rPr>
              <a:t>Elsewhe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Marc Colisim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Marc Logg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6:36Z</dcterms:created>
  <dc:creator>Authorized User</dc:creator>
  <dc:description/>
  <dc:language>en-US</dc:language>
  <cp:lastModifiedBy>Lincoln Stein</cp:lastModifiedBy>
  <cp:lastPrinted>1998-10-28T21:29:29Z</cp:lastPrinted>
  <dcterms:modified xsi:type="dcterms:W3CDTF">2003-09-15T15:49:54Z</dcterms:modified>
  <cp:revision>544</cp:revision>
  <dc:subject/>
  <dc:title>Training</dc:title>
</cp:coreProperties>
</file>